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F2A-332D-4EBD-9202-09EDFFB1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456-417F-4E52-8989-97CAD909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4B9-D852-4AB9-856D-DAA435E0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BE9-EB28-4A45-BBEA-76FA7BD1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A5F-B4A9-42C4-BF93-B17496BC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C5D-4A2D-4487-AB79-16CA27F8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4C1-F489-4AD1-8D50-1512E8C0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8FF-33FF-46C0-B6A7-BC45CB13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4FE-87FE-462F-898A-3BE84000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3AA-B967-44E8-AB0C-3CDAF743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020-6EDA-4C9B-8BD8-ED9AC46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5BE-1820-4226-BC6A-7760B4D3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5B6E-EC7F-4285-8C07-4918FAAA58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2997360"/>
            <a:ext cx="388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atch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789000"/>
            <a:ext cx="626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you doing no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am watching TV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6257345981505478496282.jpg"/>
          <p:cNvPicPr/>
          <p:nvPr/>
        </p:nvPicPr>
        <p:blipFill>
          <a:blip r:embed="rId1"/>
          <a:stretch/>
        </p:blipFill>
        <p:spPr>
          <a:xfrm>
            <a:off x="1619280" y="189000"/>
            <a:ext cx="4968720" cy="27748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700640" y="5157720"/>
            <a:ext cx="48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often watch TV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699200" y="5950080"/>
            <a:ext cx="45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 watched TV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4475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you do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am riding my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211640" y="2205000"/>
            <a:ext cx="4932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o you often d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often ride my bike afte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27280" y="4292640"/>
            <a:ext cx="5545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id you d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rode my bike last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-7670521446262079711.png"/>
          <p:cNvPicPr/>
          <p:nvPr/>
        </p:nvPicPr>
        <p:blipFill>
          <a:blip r:embed="rId1"/>
          <a:stretch/>
        </p:blipFill>
        <p:spPr>
          <a:xfrm>
            <a:off x="609480" y="905040"/>
            <a:ext cx="2778120" cy="180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3640" y="2781360"/>
            <a:ext cx="4691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atch a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34920" y="3715920"/>
            <a:ext cx="5616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you do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am watching  a fil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896602721505478496284.jpg"/>
          <p:cNvPicPr/>
          <p:nvPr/>
        </p:nvPicPr>
        <p:blipFill>
          <a:blip r:embed="rId1"/>
          <a:stretch/>
        </p:blipFill>
        <p:spPr>
          <a:xfrm>
            <a:off x="2340000" y="123840"/>
            <a:ext cx="3816360" cy="252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476360" y="501336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often watch  a film on sun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476360" y="5661000"/>
            <a:ext cx="561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watched a film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720" y="188640"/>
            <a:ext cx="85075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</a:rPr>
              <a:t>对现在正在做什么提问：</a:t>
            </a:r>
            <a:br>
              <a:rPr sz="4000"/>
            </a:br>
            <a:r>
              <a:rPr b="0" lang="zh-CN" sz="4000" spc="-1" strike="noStrike">
                <a:solidFill>
                  <a:srgbClr val="660066"/>
                </a:solidFill>
                <a:latin typeface="Arial"/>
              </a:rPr>
              <a:t>What are  you  doing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065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回答： 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I am  singing and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52360" y="4365720"/>
            <a:ext cx="85075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对过去的时间做什么提问：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What  did  you  do yesterday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？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96720" y="2133720"/>
            <a:ext cx="85075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对经常做什么提问：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What  do  you  often do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2360" y="5373720"/>
            <a:ext cx="80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回答：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 sang and danced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24000" y="3141720"/>
            <a:ext cx="80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回答：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I often  sing and dance  at 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71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词过去式变化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对于大部分动词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原型动词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+ ed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即可构成过去式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want—wanted  wash —wa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play —played   help—hel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对于原型动词词尾有“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e”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的。直接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原型动词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+ d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构成过去式。</a:t>
            </a: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dance —danced   love—l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3 “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辅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元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辅”结尾， 且须重读，双写末尾字母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+ed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构成过去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stop —stopped   plan —pl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词尾为“辅音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+y”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的动词，改“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y”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为“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i”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+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cry —cried   study —stud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worry —wo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8920" y="475920"/>
            <a:ext cx="842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规则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动词过去式的变化规律不明显，只能通过背诵记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have—had     do—did        sing—sa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go—went       read—read   swim—sw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run—ran        draw—drew   fly –fl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eat—ate        see—saw       am/is—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are—were     come—came  buy—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ride—r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720" y="907560"/>
            <a:ext cx="575928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you do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am drawing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771640" y="4508640"/>
            <a:ext cx="57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id you d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drew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382920" y="2565360"/>
            <a:ext cx="57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 do you like to d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 like to draw a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-2169507829331254000.png"/>
          <p:cNvPicPr/>
          <p:nvPr/>
        </p:nvPicPr>
        <p:blipFill>
          <a:blip r:embed="rId1"/>
          <a:stretch/>
        </p:blipFill>
        <p:spPr>
          <a:xfrm>
            <a:off x="895320" y="1195560"/>
            <a:ext cx="203832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4475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you do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am singing a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627280" y="4292640"/>
            <a:ext cx="4475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id you d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sang a song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211640" y="2205000"/>
            <a:ext cx="4932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o you often d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often sing a song afte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-5248164641694155069.png"/>
          <p:cNvPicPr/>
          <p:nvPr/>
        </p:nvPicPr>
        <p:blipFill>
          <a:blip r:embed="rId1"/>
          <a:stretch/>
        </p:blipFill>
        <p:spPr>
          <a:xfrm>
            <a:off x="1328760" y="1128600"/>
            <a:ext cx="22003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0920" y="476280"/>
            <a:ext cx="4475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you do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am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8000" y="2205000"/>
            <a:ext cx="4932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o you often d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often dance afte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979640" y="3933720"/>
            <a:ext cx="4475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id you d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danced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1804567855258012842.png"/>
          <p:cNvPicPr/>
          <p:nvPr/>
        </p:nvPicPr>
        <p:blipFill>
          <a:blip r:embed="rId1"/>
          <a:stretch/>
        </p:blipFill>
        <p:spPr>
          <a:xfrm>
            <a:off x="5510160" y="981000"/>
            <a:ext cx="2914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8025705081505478496318.jpg"/>
          <p:cNvPicPr/>
          <p:nvPr/>
        </p:nvPicPr>
        <p:blipFill>
          <a:blip r:embed="rId1"/>
          <a:stretch/>
        </p:blipFill>
        <p:spPr>
          <a:xfrm>
            <a:off x="179280" y="115920"/>
            <a:ext cx="4226040" cy="2665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427640" y="189000"/>
            <a:ext cx="4475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re you do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am flying a k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211640" y="2205000"/>
            <a:ext cx="4932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o you often d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often fiying a kite  afte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627280" y="4292640"/>
            <a:ext cx="4475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id you d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flew a kite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8T09:33:37Z</dcterms:created>
  <dc:creator>曹惜惜</dc:creator>
  <dc:description/>
  <dc:language>en-US</dc:language>
  <cp:lastModifiedBy>曹惜惜</cp:lastModifiedBy>
  <dcterms:modified xsi:type="dcterms:W3CDTF">2017-09-18T12:29:05Z</dcterms:modified>
  <cp:revision>15</cp:revision>
  <dc:subject/>
  <dc:title>watch TV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